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4ADE-308B-4855-B52F-DE0DB909C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04A0-7603-4BEE-A10B-D24A00CB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8619-64C9-4F4D-8C7D-0D0113FC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B90B-272C-41F6-9603-79C38118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BF41-F85D-4963-B684-5A36EE15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1DD4-E353-44A9-A325-9E9345F9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0400-7D3A-410E-BB0B-2A48158A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7242-1216-4485-8AE4-C2BBD66B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E6A7-BCBD-468F-9CC0-3D8212B1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0E70-239A-4D43-9525-4BA8CF09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4822-2440-4377-88CD-94338D78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6202-28E8-4976-A69F-7F8D455D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5CE2-F9C1-4BE3-B08C-C07D9CE78BC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evolucion-industrial.wikispaces.com/TAREA+2" TargetMode="External"/><Relationship Id="rId2" Type="http://schemas.openxmlformats.org/officeDocument/2006/relationships/hyperlink" Target="http://revolucion-industrial.wikispaces.com/file/view/MI%20DIARIO%20DE%20APRENDIZAJE.doc/383179572/MI%20DIARIO%20DE%20APRENDIZAJE.doc" TargetMode="External"/><Relationship Id="rId3" Type="http://schemas.openxmlformats.org/officeDocument/2006/relationships/hyperlink" Target="http://revolucion-industrial.wikispaces.com/file/view/Orientaciones%20para%20escribir%20el%20diario.doc/272619276/Orientaciones%20para%20escribir%20el%20diario.doc" TargetMode="Externa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684360" y="333360"/>
            <a:ext cx="7632720" cy="105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Tarea 2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: Escribo un diario personal poniéndome en la piel de un niño o joven que trabajó durante la Revolución Indust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24000" y="1125360"/>
            <a:ext cx="8569080" cy="203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ctividad 1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eo estos textos y expreso mis sentimien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ctividad 2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ozco diferentes dia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ctividad 3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lto en el camino: Escribimos en el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diario de aprendizaj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ctividad 4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cribo mi diario.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Orientacion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y herramienta de evalu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ctividad 5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eo en voz alta el diario. Orientaci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http://4.bp.blogspot.com/-9hfsPu9f5Eo/UBUXMGmGKEI/AAAAAAAACYI/DKr_WEMkNMo/s1600/article-1312764-0B389E7D000005DC-978_468x618.jpg"/>
          <p:cNvPicPr/>
          <p:nvPr/>
        </p:nvPicPr>
        <p:blipFill>
          <a:blip r:embed="rId4"/>
          <a:stretch/>
        </p:blipFill>
        <p:spPr>
          <a:xfrm>
            <a:off x="5651640" y="3573360"/>
            <a:ext cx="2487600" cy="3284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ttp://2.bp.blogspot.com/-3MUxj3vrRB0/T1dRSTTVCnI/AAAAAAAAAS8/2W0xwib3qZE/s640/1910_hilandera_North_Pownal_Cotton.jpg"/>
          <p:cNvPicPr/>
          <p:nvPr/>
        </p:nvPicPr>
        <p:blipFill>
          <a:blip r:embed="rId5"/>
          <a:stretch/>
        </p:blipFill>
        <p:spPr>
          <a:xfrm>
            <a:off x="324000" y="3500280"/>
            <a:ext cx="2874960" cy="3357720"/>
          </a:xfrm>
          <a:prstGeom prst="rect">
            <a:avLst/>
          </a:prstGeom>
          <a:ln w="0">
            <a:noFill/>
          </a:ln>
        </p:spPr>
      </p:pic>
      <p:sp>
        <p:nvSpPr>
          <p:cNvPr id="45" name="5 Rectángulo"/>
          <p:cNvSpPr/>
          <p:nvPr/>
        </p:nvSpPr>
        <p:spPr>
          <a:xfrm>
            <a:off x="2286000" y="3105000"/>
            <a:ext cx="53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iarios  2º ESO Instituto de Astrabudua (Bizkai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19:14:42Z</dcterms:created>
  <dc:creator>Mari</dc:creator>
  <dc:description/>
  <dc:language>en-US</dc:language>
  <cp:lastModifiedBy>Mari</cp:lastModifiedBy>
  <dcterms:modified xsi:type="dcterms:W3CDTF">2015-04-21T19:21:58Z</dcterms:modified>
  <cp:revision>1</cp:revision>
  <dc:subject/>
  <dc:title>Diapositiva 1</dc:title>
</cp:coreProperties>
</file>